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10A-4601-4E17-B704-4C8330B7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8EA-CE0A-4983-BD69-0790067C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9DD-6A81-464A-9091-C7377BD3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9DC-16A5-4054-A9C5-5FF0160C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BB9-8D54-48E7-8C74-66D8B6F3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2E5-996D-4A94-A5DD-BEEEA246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2128-4A12-4FC2-BBCA-E06D90AB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98F-E912-482C-BF0E-A523BD81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48B-428D-4038-9D24-65D18586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3E1-02DD-47C1-8C37-7FE64356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E27-77D1-4F75-950E-0FCC4906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DAE3-8EDC-4D0D-B3BD-06630C1D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0A0C-CD7A-4756-BDE5-AFA285429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id The Stud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 The Roa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440" y="586728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: The BCPSS Assistive Technology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14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. Walk. It’s saf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467160" cy="3467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3434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for scho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543480" cy="3543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3434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152960" cy="4152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14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id the stud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 the roa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114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get to school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619800" cy="3619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670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the stud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ross the ro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670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looked for the crosswal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4197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watched for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sign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2670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looked both ways for ca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1148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listened to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ing gua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467160" cy="3467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19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P! There’s a car com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2670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23:22:26Z</dcterms:created>
  <dc:creator>T. Cormell</dc:creator>
  <dc:description/>
  <dc:language>en-US</dc:language>
  <cp:lastModifiedBy>Tracy Cormell</cp:lastModifiedBy>
  <dcterms:modified xsi:type="dcterms:W3CDTF">2003-09-04T00:12:25Z</dcterms:modified>
  <cp:revision>2</cp:revision>
  <dc:subject/>
  <dc:title>Why Did The Students Cross The Road? </dc:title>
</cp:coreProperties>
</file>